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283-F38C-47DD-B177-E4F70853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372-E256-476E-8F8E-AAC38C82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3D1-4054-404F-83BB-CAC3840A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042-DE84-4E68-99A2-8A19F93F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552-4A24-43BD-929E-976AF8A4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05B-AF51-4EB0-93C7-A13C630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2F8-D6DE-49CF-80D9-72A57F74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385-DD92-4789-922E-A95FA074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AD9-A17C-440A-A1AA-D3A905A8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7ED-A39C-4EA8-AE7E-CD9B0AEC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ECE-37C7-4626-A92D-55B977AE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E35-B0DC-4A5B-B74D-2EDAFCC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0E5E-48D7-4606-9332-BE55E6D5D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8320" y="487440"/>
            <a:ext cx="45273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57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6108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851240" y="4795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x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951440" cy="6477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2640" y="4572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lab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509760"/>
            <a:ext cx="8229600" cy="6348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45960" y="4572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5530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6201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67200" cy="632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850520" y="4795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ng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905360" cy="6400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850520" y="4795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xp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56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970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90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54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20:53:29Z</dcterms:created>
  <dc:creator>Tim McCollum</dc:creator>
  <dc:description/>
  <dc:language>en-US</dc:language>
  <cp:lastModifiedBy>Tim McCollum</cp:lastModifiedBy>
  <dcterms:modified xsi:type="dcterms:W3CDTF">2011-02-04T21:14:47Z</dcterms:modified>
  <cp:revision>3</cp:revision>
  <dc:subject/>
  <dc:title>PowerPoint Presentation</dc:title>
</cp:coreProperties>
</file>